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808-713E-44CD-8F4E-4F8A7C13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1FF-F7DF-49F6-9BF3-B212AABD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805-9581-4564-8552-001AD8ED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882-BAAE-4BA4-AB86-7C411639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EEB-F8AC-4635-B08A-04D7B33D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79D-A10A-40A6-B2E5-2347F76C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1FA-31AB-48A4-9101-8DF5F806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CA6-193C-4DB9-8D0D-3F2DAD3B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AE2-B7CF-4218-8D8D-6A0D74C3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069-FEAD-4952-A966-7972FE5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67A-1137-4F9C-82E4-817AC078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E42-4128-4236-8881-D1F298BB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0631-62A6-4CF1-9566-289373B1E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esting -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762120" y="6858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4572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65903"/>
          <a:stretch/>
        </p:blipFill>
        <p:spPr>
          <a:xfrm>
            <a:off x="914400" y="182880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1440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1440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374"/>
          <a:stretch/>
        </p:blipFill>
        <p:spPr>
          <a:xfrm>
            <a:off x="914400" y="9907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15:35:12Z</dcterms:modified>
  <cp:revision>42</cp:revision>
  <dc:subject/>
  <dc:title>PowerPoint Presentation</dc:title>
</cp:coreProperties>
</file>